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Why%20Did%20You%20Do%20That.wav" ContentType="audio/x-wav"/>
  <Override PartName="/ppt/media/image5.png" ContentType="image/png"/>
  <Override PartName="/ppt/media/image2.gif" ContentType="image/gif"/>
  <Override PartName="/ppt/media/image8.jpeg" ContentType="image/jpeg"/>
  <Override PartName="/ppt/media/image7.png" ContentType="image/png"/>
  <Override PartName="/ppt/media/image9.jpeg" ContentType="image/jpeg"/>
  <Override PartName="/ppt/media/tbesxt.wav" ContentType="audio/x-wav"/>
  <Override PartName="/ppt/media/yeahbaby.wav" ContentType="audio/x-wav"/>
  <Override PartName="/ppt/media/image1.png" ContentType="image/png"/>
  <Override PartName="/ppt/media/chimes.wav" ContentType="audio/x-wav"/>
  <Override PartName="/ppt/media/toldme.wav" ContentType="audio/x-wav"/>
  <Override PartName="/ppt/media/applause.wav" ContentType="audio/x-wav"/>
  <Override PartName="/ppt/media/image6.jpeg" ContentType="image/jpeg"/>
  <Override PartName="/ppt/media/laser.wav" ContentType="audio/x-wav"/>
  <Override PartName="/ppt/media/image4.png" ContentType="image/png"/>
  <Override PartName="/ppt/media/frogcroak.wav" ContentType="audio/x-wav"/>
  <Override PartName="/ppt/media/image3.wmf" ContentType="image/x-wmf"/>
  <Override PartName="/ppt/media/Fanfare3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84F6-9055-4858-A29D-F4FF0CF9A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9C9B-15D8-4991-AD5B-A504EE350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EC82-4EAD-4D68-950B-67DAD25A0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99FC-5606-4D98-BBF5-625F2CE57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B02C4-A7FE-483E-8CE4-2A079EA3F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E1FA5-1A37-4149-833E-8871547FE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D0114-031A-46D3-9710-B6CE940A7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B54C8-29C2-4D66-BEF0-DBB103B56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8FE44-03C0-4DD0-BFF9-C48719198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6EED3-E743-4FD2-9FB4-E8093F4D6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248AD-8ABF-4C83-9434-E27814A42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BD3F-C676-4824-B71D-67848287D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07695-D36C-41AD-B1A0-6302D5221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44228-AC9F-4CE9-81B4-D50D1BF11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89973-FEEC-4DB8-8813-C9FC1EDAF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25E4F-8A6A-43C7-B83F-3286A47FC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4A2C0-99FE-44BF-A794-94B49E7F9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6F23-D172-400A-867D-D17365FDA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5605-16DB-4C1E-91F8-FAEB0C878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E1B1-16E7-4DDC-A289-D44279EE8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1E6B-2E72-4B90-8D44-735247319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27AA-9FD0-4237-9F6C-870FCEEF0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0FEC-FF08-4DCC-B666-B20CA0C4B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294B-B452-4871-9177-05801DDAC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BC064-96B1-4E37-987F-7EABB9CF3C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92BFA-C17C-4E7C-BCDE-FA9E4F89A2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audio" Target="../media/Fanfare3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audio" Target="../media/Why%20Did%20You%20Do%20That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audio" Target="../media/yeahbaby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wmf"/><Relationship Id="rId4" Type="http://schemas.openxmlformats.org/officeDocument/2006/relationships/audio" Target="../media/tbesxt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audio" Target="../media/frogcroak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audio" Target="../media/toldme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95280" y="2743200"/>
            <a:ext cx="64008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issa Haden Gue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ord Wall Wo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d by Joanne Whitle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une 27, 200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WordArt 4"/>
          <p:cNvSpPr txBox="1"/>
          <p:nvPr/>
        </p:nvSpPr>
        <p:spPr>
          <a:xfrm>
            <a:off x="838080" y="228600"/>
            <a:ext cx="769644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Iris and Walter</a:t>
            </a:r>
            <a:endParaRPr b="1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533160" y="2590920"/>
            <a:ext cx="80010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2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200" spc="-1" strike="noStrike">
                <a:solidFill>
                  <a:srgbClr val="000000"/>
                </a:solidFill>
                <a:latin typeface="Verdana"/>
              </a:rPr>
              <a:t>Our teacher is</a:t>
            </a:r>
            <a:endParaRPr b="0" lang="en-US" sz="8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29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800" spc="-1" strike="noStrike">
                <a:solidFill>
                  <a:srgbClr val="cc0000"/>
                </a:solidFill>
                <a:latin typeface="Verdana"/>
              </a:rPr>
              <a:t>beautiful</a:t>
            </a:r>
            <a:r>
              <a:rPr b="0" lang="en-US" sz="11900" spc="-1" strike="noStrike">
                <a:solidFill>
                  <a:srgbClr val="000000"/>
                </a:solidFill>
                <a:latin typeface="Verdana"/>
              </a:rPr>
              <a:t>!</a:t>
            </a:r>
            <a:endParaRPr b="0" lang="en-US" sz="1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Picture 3" descr="Picture1"/>
          <p:cNvPicPr/>
          <p:nvPr/>
        </p:nvPicPr>
        <p:blipFill>
          <a:blip r:embed="rId2"/>
          <a:stretch/>
        </p:blipFill>
        <p:spPr>
          <a:xfrm>
            <a:off x="6095880" y="152280"/>
            <a:ext cx="2041560" cy="24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533160" y="388584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Verdana"/>
              </a:rPr>
              <a:t>Someone   ate the</a:t>
            </a:r>
            <a:endParaRPr b="0" lang="en-US" sz="6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Verdana"/>
              </a:rPr>
              <a:t>apple.</a:t>
            </a:r>
            <a:endParaRPr b="0" lang="en-US" sz="6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609480" y="3962520"/>
            <a:ext cx="4496040" cy="99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Picture 5" descr="Apple6"/>
          <p:cNvPicPr/>
          <p:nvPr/>
        </p:nvPicPr>
        <p:blipFill>
          <a:blip r:embed="rId2"/>
          <a:stretch/>
        </p:blipFill>
        <p:spPr>
          <a:xfrm>
            <a:off x="6629400" y="533520"/>
            <a:ext cx="200808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533160" y="320004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cc0000"/>
                </a:solidFill>
                <a:latin typeface="Verdana"/>
              </a:rPr>
              <a:t>Someone</a:t>
            </a:r>
            <a:r>
              <a:rPr b="0" lang="en-US" sz="5600" spc="-1" strike="noStrike">
                <a:solidFill>
                  <a:srgbClr val="000000"/>
                </a:solidFill>
                <a:latin typeface="Verdana"/>
              </a:rPr>
              <a:t> ate the</a:t>
            </a:r>
            <a:endParaRPr b="0" lang="en-US" sz="5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Verdana"/>
              </a:rPr>
              <a:t>apple.</a:t>
            </a:r>
            <a:endParaRPr b="0" lang="en-US" sz="5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Picture 4" descr="Apple6"/>
          <p:cNvPicPr/>
          <p:nvPr/>
        </p:nvPicPr>
        <p:blipFill>
          <a:blip r:embed="rId2"/>
          <a:stretch/>
        </p:blipFill>
        <p:spPr>
          <a:xfrm>
            <a:off x="6629400" y="533520"/>
            <a:ext cx="2008080" cy="21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6840" y="3276360"/>
            <a:ext cx="80010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2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200" spc="-1" strike="noStrike">
                <a:solidFill>
                  <a:srgbClr val="000000"/>
                </a:solidFill>
                <a:latin typeface="Verdana"/>
              </a:rPr>
              <a:t>Will you be my     friend     ?</a:t>
            </a:r>
            <a:endParaRPr b="0" lang="en-US" sz="8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762120" y="4648320"/>
            <a:ext cx="5105160" cy="12189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Picture 5" descr="bearheartpic"/>
          <p:cNvPicPr/>
          <p:nvPr/>
        </p:nvPicPr>
        <p:blipFill>
          <a:blip r:embed="rId2"/>
          <a:stretch/>
        </p:blipFill>
        <p:spPr>
          <a:xfrm>
            <a:off x="5410080" y="533520"/>
            <a:ext cx="327672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6840" y="3276360"/>
            <a:ext cx="80010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Verdana"/>
              </a:rPr>
              <a:t>Will you be my     </a:t>
            </a:r>
            <a:r>
              <a:rPr b="0" lang="en-US" sz="11300" spc="-1" strike="noStrike">
                <a:solidFill>
                  <a:srgbClr val="cc0000"/>
                </a:solidFill>
                <a:latin typeface="Verdana"/>
              </a:rPr>
              <a:t>friend</a:t>
            </a:r>
            <a:r>
              <a:rPr b="0" lang="en-US" sz="120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1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Picture 4" descr="bearheartpic"/>
          <p:cNvPicPr/>
          <p:nvPr/>
        </p:nvPicPr>
        <p:blipFill>
          <a:blip r:embed="rId2"/>
          <a:stretch/>
        </p:blipFill>
        <p:spPr>
          <a:xfrm>
            <a:off x="5410080" y="533520"/>
            <a:ext cx="3276720" cy="249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15235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Verdana"/>
              </a:rPr>
              <a:t>Look at the word carefully as it flashes on the screen and then we will spell it together.</a:t>
            </a:r>
            <a:endParaRPr b="0" lang="en-US" sz="5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33160" y="2514600"/>
            <a:ext cx="80010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0" algn="ctr">
              <a:spcBef>
                <a:spcPts val="43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400" spc="-1" strike="noStrike">
                <a:solidFill>
                  <a:srgbClr val="000000"/>
                </a:solidFill>
                <a:latin typeface="Verdana"/>
              </a:rPr>
              <a:t>front</a:t>
            </a:r>
            <a:endParaRPr b="0" lang="en-US" sz="17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2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533160" y="2514600"/>
            <a:ext cx="80010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32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100" spc="-1" strike="noStrike">
                <a:solidFill>
                  <a:srgbClr val="000000"/>
                </a:solidFill>
                <a:latin typeface="Verdana"/>
              </a:rPr>
              <a:t>someone</a:t>
            </a:r>
            <a:endParaRPr b="0" lang="en-US" sz="13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2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533160" y="2514600"/>
            <a:ext cx="80010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32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100" spc="-1" strike="noStrike">
                <a:solidFill>
                  <a:srgbClr val="000000"/>
                </a:solidFill>
                <a:latin typeface="Verdana"/>
              </a:rPr>
              <a:t>country</a:t>
            </a:r>
            <a:endParaRPr b="0" lang="en-US" sz="13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2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533160" y="2514600"/>
            <a:ext cx="80010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32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100" spc="-1" strike="noStrike">
                <a:solidFill>
                  <a:srgbClr val="000000"/>
                </a:solidFill>
                <a:latin typeface="Verdana"/>
              </a:rPr>
              <a:t>friend</a:t>
            </a:r>
            <a:endParaRPr b="0" lang="en-US" sz="13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2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hant the words one time as they appear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omeon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omewher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frien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untr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beautifu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fron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2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2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2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20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533160" y="2514600"/>
            <a:ext cx="80010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32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100" spc="-1" strike="noStrike">
                <a:solidFill>
                  <a:srgbClr val="000000"/>
                </a:solidFill>
                <a:latin typeface="Verdana"/>
              </a:rPr>
              <a:t>beautiful</a:t>
            </a:r>
            <a:endParaRPr b="0" lang="en-US" sz="13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2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533160" y="2514600"/>
            <a:ext cx="80010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24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800" spc="-1" strike="noStrike">
                <a:solidFill>
                  <a:srgbClr val="000000"/>
                </a:solidFill>
                <a:latin typeface="Verdana"/>
              </a:rPr>
              <a:t>somewhere</a:t>
            </a:r>
            <a:endParaRPr b="0" lang="en-US" sz="9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2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ickey says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Picture 4" descr="mickeyl"/>
          <p:cNvPicPr/>
          <p:nvPr/>
        </p:nvPicPr>
        <p:blipFill>
          <a:blip r:embed="rId2"/>
          <a:stretch/>
        </p:blipFill>
        <p:spPr>
          <a:xfrm>
            <a:off x="1295280" y="2743200"/>
            <a:ext cx="2900520" cy="3314880"/>
          </a:xfrm>
          <a:prstGeom prst="rect">
            <a:avLst/>
          </a:prstGeom>
          <a:ln w="0">
            <a:noFill/>
          </a:ln>
        </p:spPr>
      </p:pic>
      <p:sp>
        <p:nvSpPr>
          <p:cNvPr id="131" name="AutoShape 5"/>
          <p:cNvSpPr/>
          <p:nvPr/>
        </p:nvSpPr>
        <p:spPr>
          <a:xfrm>
            <a:off x="4572000" y="1676520"/>
            <a:ext cx="4114800" cy="1447560"/>
          </a:xfrm>
          <a:prstGeom prst="wedgeEllipseCallout">
            <a:avLst>
              <a:gd name="adj1" fmla="val -55750"/>
              <a:gd name="adj2" fmla="val 107458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5029200" y="2057400"/>
            <a:ext cx="358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Great job!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8"/>
    <p:sndAc>
      <p:stSnd>
        <p:snd r:embed="rId3" name="applaus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Verdana"/>
              </a:rPr>
              <a:t>The United States of</a:t>
            </a:r>
            <a:endParaRPr b="0" lang="en-US" sz="5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Verdana"/>
              </a:rPr>
              <a:t>America is a </a:t>
            </a:r>
            <a:endParaRPr b="0" lang="en-US" sz="5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Verdana"/>
              </a:rPr>
              <a:t>country    .   </a:t>
            </a:r>
            <a:endParaRPr b="0" lang="en-US" sz="5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457200" y="3733920"/>
            <a:ext cx="3962520" cy="1295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5" descr="usa"/>
          <p:cNvPicPr/>
          <p:nvPr/>
        </p:nvPicPr>
        <p:blipFill>
          <a:blip r:embed="rId2"/>
          <a:stretch/>
        </p:blipFill>
        <p:spPr>
          <a:xfrm>
            <a:off x="5715000" y="3878280"/>
            <a:ext cx="3124080" cy="1733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UNITEDSTATES1"/>
          <p:cNvPicPr/>
          <p:nvPr/>
        </p:nvPicPr>
        <p:blipFill>
          <a:blip r:embed="rId3"/>
          <a:stretch/>
        </p:blipFill>
        <p:spPr>
          <a:xfrm>
            <a:off x="6095880" y="152280"/>
            <a:ext cx="1854360" cy="14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Verdana"/>
              </a:rPr>
              <a:t>The United States of</a:t>
            </a:r>
            <a:endParaRPr b="0" lang="en-US" sz="5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Verdana"/>
              </a:rPr>
              <a:t>America is a </a:t>
            </a:r>
            <a:endParaRPr b="0" lang="en-US" sz="5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cc0000"/>
                </a:solidFill>
                <a:latin typeface="Verdana"/>
              </a:rPr>
              <a:t>country</a:t>
            </a:r>
            <a:r>
              <a:rPr b="0" lang="en-US" sz="5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5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Picture 4" descr="usa"/>
          <p:cNvPicPr/>
          <p:nvPr/>
        </p:nvPicPr>
        <p:blipFill>
          <a:blip r:embed="rId2"/>
          <a:stretch/>
        </p:blipFill>
        <p:spPr>
          <a:xfrm>
            <a:off x="5181480" y="3581280"/>
            <a:ext cx="3657600" cy="20304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UNITEDSTATES1"/>
          <p:cNvPicPr/>
          <p:nvPr/>
        </p:nvPicPr>
        <p:blipFill>
          <a:blip r:embed="rId3"/>
          <a:stretch/>
        </p:blipFill>
        <p:spPr>
          <a:xfrm>
            <a:off x="6705720" y="228600"/>
            <a:ext cx="1854000" cy="148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3200400"/>
            <a:ext cx="86868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18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00"/>
                </a:solidFill>
                <a:latin typeface="Verdana"/>
              </a:rPr>
              <a:t>I know I put that frog somewhere.</a:t>
            </a:r>
            <a:endParaRPr b="0" lang="en-US" sz="7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5" descr="BookBag02"/>
          <p:cNvPicPr/>
          <p:nvPr/>
        </p:nvPicPr>
        <p:blipFill>
          <a:blip r:embed="rId2"/>
          <a:stretch/>
        </p:blipFill>
        <p:spPr>
          <a:xfrm>
            <a:off x="5943600" y="304920"/>
            <a:ext cx="2317680" cy="266688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6"/>
          <p:cNvSpPr/>
          <p:nvPr/>
        </p:nvSpPr>
        <p:spPr>
          <a:xfrm>
            <a:off x="2514600" y="4419720"/>
            <a:ext cx="5791320" cy="13716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51920" y="3200400"/>
            <a:ext cx="89917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1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000000"/>
                </a:solidFill>
                <a:latin typeface="Verdana"/>
              </a:rPr>
              <a:t>I know I put that frog </a:t>
            </a:r>
            <a:r>
              <a:rPr b="0" lang="en-US" sz="7500" spc="-1" strike="noStrike">
                <a:solidFill>
                  <a:srgbClr val="cc0000"/>
                </a:solidFill>
                <a:latin typeface="Verdana"/>
              </a:rPr>
              <a:t>somewhere</a:t>
            </a:r>
            <a:r>
              <a:rPr b="0" lang="en-US" sz="69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6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Picture 3" descr="BookBag02"/>
          <p:cNvPicPr/>
          <p:nvPr/>
        </p:nvPicPr>
        <p:blipFill>
          <a:blip r:embed="rId2"/>
          <a:stretch/>
        </p:blipFill>
        <p:spPr>
          <a:xfrm>
            <a:off x="5943600" y="304920"/>
            <a:ext cx="231768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04560" y="1447560"/>
            <a:ext cx="80010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2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2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200" spc="-1" strike="noStrike">
                <a:solidFill>
                  <a:srgbClr val="000000"/>
                </a:solidFill>
                <a:latin typeface="Verdana"/>
              </a:rPr>
              <a:t>Please go to the  front  of the line.</a:t>
            </a:r>
            <a:endParaRPr b="0" lang="en-US" sz="8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2666880" y="4038480"/>
            <a:ext cx="3733920" cy="10670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5" descr="geokidsx"/>
          <p:cNvPicPr/>
          <p:nvPr/>
        </p:nvPicPr>
        <p:blipFill>
          <a:blip r:embed="rId2"/>
          <a:stretch/>
        </p:blipFill>
        <p:spPr>
          <a:xfrm>
            <a:off x="762120" y="228600"/>
            <a:ext cx="7315200" cy="141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04560" y="2743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erdana"/>
              </a:rPr>
              <a:t>Please go to the </a:t>
            </a:r>
            <a:r>
              <a:rPr b="0" lang="en-US" sz="8800" spc="-1" strike="noStrike">
                <a:solidFill>
                  <a:srgbClr val="cc0000"/>
                </a:solidFill>
                <a:latin typeface="Verdana"/>
              </a:rPr>
              <a:t>front</a:t>
            </a:r>
            <a:r>
              <a:rPr b="0" lang="en-US" sz="7200" spc="-1" strike="noStrike">
                <a:solidFill>
                  <a:srgbClr val="000000"/>
                </a:solidFill>
                <a:latin typeface="Verdana"/>
              </a:rPr>
              <a:t> of the line.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4" descr="geokidsx"/>
          <p:cNvPicPr/>
          <p:nvPr/>
        </p:nvPicPr>
        <p:blipFill>
          <a:blip r:embed="rId2"/>
          <a:stretch/>
        </p:blipFill>
        <p:spPr>
          <a:xfrm>
            <a:off x="762120" y="228600"/>
            <a:ext cx="7315200" cy="141768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5"/>
          <p:cNvSpPr/>
          <p:nvPr/>
        </p:nvSpPr>
        <p:spPr>
          <a:xfrm>
            <a:off x="4114800" y="3352680"/>
            <a:ext cx="76320" cy="763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533160" y="2590920"/>
            <a:ext cx="80010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2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200" spc="-1" strike="noStrike">
                <a:solidFill>
                  <a:srgbClr val="000000"/>
                </a:solidFill>
                <a:latin typeface="Verdana"/>
              </a:rPr>
              <a:t>Our teacher is</a:t>
            </a:r>
            <a:endParaRPr b="0" lang="en-US" sz="8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2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200" spc="-1" strike="noStrike">
                <a:solidFill>
                  <a:srgbClr val="000000"/>
                </a:solidFill>
                <a:latin typeface="Verdana"/>
              </a:rPr>
              <a:t>beautiful     !</a:t>
            </a:r>
            <a:endParaRPr b="0" lang="en-US" sz="8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Picture 4" descr="Picture1"/>
          <p:cNvPicPr/>
          <p:nvPr/>
        </p:nvPicPr>
        <p:blipFill>
          <a:blip r:embed="rId2"/>
          <a:stretch/>
        </p:blipFill>
        <p:spPr>
          <a:xfrm>
            <a:off x="6095880" y="152280"/>
            <a:ext cx="2233800" cy="266724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5"/>
          <p:cNvSpPr/>
          <p:nvPr/>
        </p:nvSpPr>
        <p:spPr>
          <a:xfrm>
            <a:off x="609480" y="4191120"/>
            <a:ext cx="6400800" cy="1295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7T17:24:07Z</dcterms:created>
  <dc:creator>WebMaster</dc:creator>
  <dc:description/>
  <dc:language>en-US</dc:language>
  <cp:lastModifiedBy>Laura McDow</cp:lastModifiedBy>
  <dcterms:modified xsi:type="dcterms:W3CDTF">2010-07-29T11:18:05Z</dcterms:modified>
  <cp:revision>24</cp:revision>
  <dc:subject/>
  <dc:title>Slide 1</dc:title>
</cp:coreProperties>
</file>